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E8BA-45D8-46D1-A1E9-5A5C117D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C06-AAC7-4937-946A-CB470D4E6AB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552C-2C91-404A-8D90-61E9FF298A0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072-6398-4E5A-8ED1-4B441958AA7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B9BE-7054-4E9C-ADDE-B6B59FAE694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F91D-539D-42C8-B470-11D4C2833F7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126-6AF4-4C5A-9FBA-A5CD19B3AF9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D910-BDD9-4EFA-B2F4-6C9DDF67AE3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C7D6-30EC-4D17-95C2-4D3BF0F8F04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3E53-21C3-49AA-A201-2961EDF1519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BB23-3F52-4084-A47B-1988256CFF2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B91-CECE-4C54-9D8B-B5A607DC261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D074-EA4C-4ABD-8B40-729E93FA802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063-996E-46E9-A273-FCD5DF9EA07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1F9-AC18-4D85-9739-1105C1C25D9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B18-EF57-4767-8111-DC95194EA5D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2157-7E12-4850-A782-1FD4941A5D9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B456-7B26-4665-8922-88A539E341E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A4C-3265-4359-AF7A-6FFE5ABBDA5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4090-C669-4F55-96E5-38E684BFF0D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9845-65B9-4443-984C-718A1D0B1C2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00BC-1968-470F-8690-38F5795E4E9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0A7D-2E24-484C-BCDB-EBEA9B608C3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584B-6E73-418C-9879-92B305E32C1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5769-6028-46C4-98B3-A72C98DE759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8DB0-134D-4EF9-904B-7847A8722D1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20CF-99A6-44AE-8933-D815E6C15EC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334-1235-4B49-9C71-4B84152F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DDC-2B2E-4943-A023-9A4FA50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4F9-5EBF-4852-BF2F-31D8D4DE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CB8-D456-4C3D-A0FC-0AE9A1CE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A54-5DFF-4263-99EF-6AE5C8AE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CBF-A601-4DA8-8EE0-BC98563E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188-87B9-428C-BBCA-5415E5BE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3C4-653C-4A83-A459-C9B08F4F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29E-B6B6-4627-B458-5C516755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D19-50F0-42AA-B876-D8E1EAC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DBD-E82F-4FFC-820F-922A2BE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4D5-F732-4DCA-AFC1-1593D99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5EF7-A034-492B-9CB5-756367CCFFA0}" type="slidenum">
              <a:rPr b="0" lang="en-US" sz="1400" spc="-1" strike="noStrike">
                <a:solidFill>
                  <a:srgbClr val="ffff66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s temps français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une vue d’ensembl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À Antibes, nous avons regardé des bateaux en mer, nous nous sommes promenés le long des remparts, puis nous avons visité la marina, où nous avons vu des bateaux de lux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93" name="Picture 6" descr="Antibes 20"/>
          <p:cNvPicPr/>
          <p:nvPr/>
        </p:nvPicPr>
        <p:blipFill>
          <a:blip r:embed="rId2"/>
          <a:stretch/>
        </p:blipFill>
        <p:spPr>
          <a:xfrm>
            <a:off x="1676520" y="19051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tibes 28"/>
          <p:cNvPicPr/>
          <p:nvPr/>
        </p:nvPicPr>
        <p:blipFill>
          <a:blip r:embed="rId3"/>
          <a:stretch/>
        </p:blipFill>
        <p:spPr>
          <a:xfrm>
            <a:off x="5410080" y="1866960"/>
            <a:ext cx="2797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Passé Composé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avons écouté le nouveau CD d’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suis sorti au resto hier soir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est levé de bonne heure aujourd’hui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 listened to the new CD of Abd Al Malik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 went out to a restaurant last nigh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got up early today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Le Présent du verbe venir + de + l’infinitif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passé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a phrase “Je viens de rentrer” exprime l’idée d’un reto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i l’on se sert de l’Imparfait de venir, l’idée est d’une action passée juste avant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vient d’acheter une énorme pizza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08" name="Picture 5" descr="pizza"/>
          <p:cNvPicPr/>
          <p:nvPr/>
        </p:nvPicPr>
        <p:blipFill>
          <a:blip r:embed="rId2"/>
          <a:stretch/>
        </p:blipFill>
        <p:spPr>
          <a:xfrm>
            <a:off x="1981080" y="1981080"/>
            <a:ext cx="2132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Je viens de voir un bon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Nous venons de passer nos exame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venait de sortir quand je suis arrivé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298440" indent="-2984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venaient d’apprendre le passé réc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’ve just seen a good movi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We’ve just sat our exam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just gone out when I arrived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just learnt the recent pas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our le présent, il faut bien connaître les trois conjugaisons principales; les verbes en -er, -ir et -re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faut savoir que pour les verbes en -ir, il y a 2 sortes; les verbes comme finir et ceux comme dormir. 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t, bien sûr, il faut apprendre par coeur les verbes irréguliers les plus communs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xprime: ce qui se passe maintenant ou généralement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Les verbes réguliers au Présent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rebuchet MS"/>
              </a:rPr>
              <a:t>Quelles sont les terminaisons?</a:t>
            </a:r>
            <a:endParaRPr b="1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e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fin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ir comme dormir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-r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e, -es, -e,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, -is, -i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issons, -issez, -iss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s, -s, -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-ons, -ez, -ent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rebuchet MS"/>
              </a:rPr>
              <a:t>Les verbes irréguliers au Présent - quelles sont les formes...?</a:t>
            </a:r>
            <a:endParaRPr b="1" lang="en-US" sz="37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voir: je, il,vous, 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être: je, nous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re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ller: je, ell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nir: tu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evoir: je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voir: tu, v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ouvoir: je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uloir: on, n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r: tu, nous, il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re: je, vous, elles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ai, a, avez, 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uis, sommes, êtes, s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fais, faites, f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ais, va, vo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iens, venez, vienn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ois, devons, doi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sais, savez, sa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peux, peuv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eut, voulons, veul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vois, voyons, voi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rebuchet MS"/>
              </a:rPr>
              <a:t>dis, dites, disent</a:t>
            </a:r>
            <a:endParaRPr b="0" lang="en-US" sz="2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u verbe aller + l’infinitif d’un autre verb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le futur immédia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Par exemple: Demain, je vais aller au cin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Cannes, nous allons regarder les artistes de la plag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ous allons aussi, peut–être, nous baigner dans la m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36" name="Picture 6" descr="Cannes beach art"/>
          <p:cNvPicPr/>
          <p:nvPr/>
        </p:nvPicPr>
        <p:blipFill>
          <a:blip r:embed="rId2"/>
          <a:stretch/>
        </p:blipFill>
        <p:spPr>
          <a:xfrm>
            <a:off x="4724280" y="2666880"/>
            <a:ext cx="2925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Tous les temps.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assé Réc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Présent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Proch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Proche...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Next year I’m going to go to un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This evening, we’re going to study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On Saturday morning, they’re going to sleep in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’année prochaine, je vais aller à la fac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Ce soir, nous allons étudie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12120" indent="-31212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Samedi matin, ils vont faire la grasse-matin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Forme: radical + terminaisons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Radicaux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pour les verbes en -er et en -ir, c’est l’infinitif et pour ceux en -re, enlever le 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Pour les autres, il faut apprendre la form ‘je’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rebuchet MS"/>
              </a:rPr>
              <a:t>Terminaisons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: -ai, -as, -a, -ons, -ez, -ont 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(comme le verbe avoir!)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xprime une  action ou un état à l’aveni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Dans la phrase “Nous irons en France”, ‘irons’ est au Futur Simpl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66"/>
                </a:solidFill>
                <a:latin typeface="Trebuchet MS"/>
              </a:rPr>
              <a:t>Futur Simple...traduisez...</a:t>
            </a:r>
            <a:endParaRPr b="1" lang="en-US" sz="4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près avoir quitté l’école, j’irai à l’étrange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travaillerai comme serveur pour gagner de l’argen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passerai du temps e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reviendrai en NZ un jour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leaving school, I will go abroa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work as a waiter to earn some mone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spend some time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ill come back to NZ one 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Simple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À Nice, je me promènerai sur la Promenade des Anglais et je prendrai le déjeuner au soleil, sur la plage. Je m’amuserai bien dans le Midi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55" name="Picture 8" descr="Sur la Prom, Nice 4 Jan 09"/>
          <p:cNvPicPr/>
          <p:nvPr/>
        </p:nvPicPr>
        <p:blipFill>
          <a:blip r:embed="rId2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6" name="Picture 9" descr="Déjeuner 16 Jan 4"/>
          <p:cNvPicPr/>
          <p:nvPr/>
        </p:nvPicPr>
        <p:blipFill>
          <a:blip r:embed="rId3"/>
          <a:stretch/>
        </p:blipFill>
        <p:spPr>
          <a:xfrm>
            <a:off x="5257800" y="1981080"/>
            <a:ext cx="2819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Futur Simple de l’auxiliaire + PP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future qui aura lieu avant une autre action futu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n 2012, il aura fini ses études”, ‘il aura fini’ est au Futur Antérieur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rebuchet MS"/>
              </a:rPr>
              <a:t>Le Futur Antérieur...traduisez</a:t>
            </a:r>
            <a:endParaRPr b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vant de partir à l’étranger, j’aurai travaillé pendant un an au moi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Après qu’elle sera partie, nous nous coucherons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Il sortira quand il aura fini son travail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Demain à cette heure, nous serons arrivés en France.</a:t>
            </a:r>
            <a:endParaRPr b="0" lang="en-US" sz="2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Before going overseas, I’ll have worked for a year at leas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After she’s left, we’ll go to b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He’ll go out, when he’s finished his work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294840" indent="-29484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Tomorrow at this time, we will have arrived in Franc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Futur Antérieur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Avant de quitter Paris, nous aurons visité l’Obélisque, le Grand Palais et la Tour Eiffel, parmi d’autres attractions célèbre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170" name="Picture 6" descr="famous landmarks"/>
          <p:cNvPicPr/>
          <p:nvPr/>
        </p:nvPicPr>
        <p:blipFill>
          <a:blip r:embed="rId2"/>
          <a:stretch/>
        </p:blipFill>
        <p:spPr>
          <a:xfrm>
            <a:off x="3200400" y="1828800"/>
            <a:ext cx="292572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Le 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Imparfait de l’auxiliaire (avoir ou être) + Participe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 une action passée antérieure à une autre action passé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J’avais fini quand vous êtes arrivé”, “j’avais fini” est au Plus-que-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n anglais, c’est “had done/had been doing”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291600" indent="-2916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avec être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s étaient sortis de l’école militaire et avaient regardé le monument de la paix quand ils se sont rendus compte que la Tour Eiffel se trouvait juste derrière...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64" name="Picture 6" descr="école militaire 13 Jan"/>
          <p:cNvPicPr/>
          <p:nvPr/>
        </p:nvPicPr>
        <p:blipFill>
          <a:blip r:embed="rId2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Picture 7" descr="peace monument"/>
          <p:cNvPicPr/>
          <p:nvPr/>
        </p:nvPicPr>
        <p:blipFill>
          <a:blip r:embed="rId3"/>
          <a:stretch/>
        </p:blipFill>
        <p:spPr>
          <a:xfrm>
            <a:off x="1270080" y="4114800"/>
            <a:ext cx="2641680" cy="198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lus-que-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Elle m’a demandé si j’avais vu l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s étaient déjà descendus quand je suis entr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Il s’était déjà levé quand sa mère l’a appelé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She asked me if I’d seen the fil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They had already come downstairs when I came in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-332640">
              <a:spcBef>
                <a:spcPts val="64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rebuchet MS"/>
              </a:rPr>
              <a:t>He had already got up when his mother called him.</a:t>
            </a:r>
            <a:endParaRPr b="0" lang="en-US" sz="26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endre la forme ‘nous’ du Présent, enlever ‘-ons’, puis ajouter des terminaisons: ais, ais, ait, ions, iez, aient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1) une description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2) une action continue au passé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3) une habitude passé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 “Elle parlait au téléphone quand je suis entré”, “elle parlait” est à l’Imparfait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Quand j’étais à La Rochelle, il faisait beau tous les j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Le ciel était bleu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J’aimais me promener près des deux tour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79" name="Picture 5" descr="Tours de la Chaine et st Nicholas 6 jan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62120" y="2286000"/>
            <a:ext cx="3809880" cy="285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Imparfait - traduisez...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ach year we would go to Stewart Island on holiday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t never used to rain where we l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She was wearing a beautiful, white dres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08520" indent="-308520"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 was playing on the computer when my friend arrived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Chaque année, nous allions en vacances à l’Île Stewart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Il ne pleuvait jamais là où nous habitions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Elle portait une belle robe blanche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rebuchet MS"/>
              </a:rPr>
              <a:t>Je jouais à l’ordinateur, quand mon copain est arrivé.</a:t>
            </a: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Passé Composé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Forme: Présent de l’auxiliaire (avoir ou être) + Participe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Exprime: un événement accompli, au pas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Dans la phrase, “Cette semaine, j’ai beaucoup lu”, “j’ai lu” est au Passé Composé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rebuchet MS"/>
              </a:rPr>
              <a:t>Il faut se rappeler des verbes qui utilisent être pour former ce temps.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9:44:29Z</dcterms:created>
  <dc:creator>IT Dept</dc:creator>
  <dc:description/>
  <dc:language>en-US</dc:language>
  <cp:lastModifiedBy>Ministry of Education</cp:lastModifiedBy>
  <cp:lastPrinted>2009-06-01T09:23:41Z</cp:lastPrinted>
  <dcterms:modified xsi:type="dcterms:W3CDTF">2009-08-25T06:51:46Z</dcterms:modified>
  <cp:revision>45</cp:revision>
  <dc:subject/>
  <dc:title>Les temps français</dc:title>
</cp:coreProperties>
</file>